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5F571-7DF9-4C2E-A254-A8E1978E4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70985-AFCF-4685-9343-888B8602F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cuela Calab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F58EE-22DE-403F-839B-E0F459CEA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D745D-05C9-4EBB-BFE6-2CC6A0AE2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9F30A-878E-4037-97AD-E504B32F5D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A1D9F-34EA-4C1F-9048-961B2FA2C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7E463-9B32-4561-9174-538363DF9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312C5-8FCC-4AEF-ACD6-23FBFA334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3AAE0-749E-4596-A3E3-DC9F5C9B7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4F483-8D71-4B29-BEA9-EE7BF8006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9F4E3-AC99-4A5E-B727-A232D15315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D12C5-45F2-4BBB-972A-5D32A03B9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C5497-AE79-4646-A799-84D52E2F20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A276B-159F-4E87-A839-E2D85D211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F9931-F494-46A7-ADC1-AA714D7E0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D823-3E3A-4915-8307-6DDA6E6B8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96B5-216B-4AA6-AF96-DEA2F63A7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3439-0B78-4FBB-9E06-D2BA9A386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E043-4DD8-4CA6-95F2-FAACB7FCD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1745-D869-4591-BA0B-91D1E8AFF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6807-88D7-41BE-ADB3-89A0F1A0B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07BE-02E4-4FD2-9A55-28111366A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7BAF-E6FC-4DD6-AE1B-1EAB6BB66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843B-1B84-4552-81F2-2DC4D5AE9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C543-1E8B-4EC3-810D-E42CB7AE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C180-7B51-446E-BDD2-AEC9474D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1990-134C-471A-94EB-90310843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D12A0-2B20-4B30-BD23-AB6D21956A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dleader21.com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" descr="mast_09"/>
          <p:cNvPicPr/>
          <p:nvPr/>
        </p:nvPicPr>
        <p:blipFill>
          <a:blip r:embed="rId1"/>
          <a:stretch/>
        </p:blipFill>
        <p:spPr>
          <a:xfrm>
            <a:off x="0" y="0"/>
            <a:ext cx="9144000" cy="12906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9"/>
          <p:cNvSpPr/>
          <p:nvPr/>
        </p:nvSpPr>
        <p:spPr>
          <a:xfrm>
            <a:off x="1981080" y="3049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novation in Edu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2"/>
          <p:cNvSpPr/>
          <p:nvPr/>
        </p:nvSpPr>
        <p:spPr>
          <a:xfrm>
            <a:off x="1676520" y="6060960"/>
            <a:ext cx="60958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All the Elements Fit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n Koufman-Frederick, Watertown Public Sch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3" descr=""/>
          <p:cNvPicPr/>
          <p:nvPr/>
        </p:nvPicPr>
        <p:blipFill>
          <a:blip r:embed="rId2"/>
          <a:stretch/>
        </p:blipFill>
        <p:spPr>
          <a:xfrm>
            <a:off x="1676520" y="1523880"/>
            <a:ext cx="5838840" cy="42451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2" name="Text Box 14"/>
          <p:cNvSpPr/>
          <p:nvPr/>
        </p:nvSpPr>
        <p:spPr>
          <a:xfrm>
            <a:off x="7620120" y="2057400"/>
            <a:ext cx="1295280" cy="17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cambio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 Escuela Calab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ntevideo, Uruguay July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8" descr="mast_09"/>
          <p:cNvPicPr/>
          <p:nvPr/>
        </p:nvPicPr>
        <p:blipFill>
          <a:blip r:embed="rId1"/>
          <a:stretch/>
        </p:blipFill>
        <p:spPr>
          <a:xfrm>
            <a:off x="0" y="0"/>
            <a:ext cx="9144000" cy="12906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ership Pract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tent Placeholder 6"/>
          <p:cNvSpPr/>
          <p:nvPr/>
        </p:nvSpPr>
        <p:spPr>
          <a:xfrm>
            <a:off x="685800" y="1752480"/>
            <a:ext cx="81550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-34272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del what we want in our learning environm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llaborate on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ve a 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Google do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ke a T-I-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ach a T-I-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sent with a Prez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1x1Access"/>
          <p:cNvPicPr/>
          <p:nvPr/>
        </p:nvPicPr>
        <p:blipFill>
          <a:blip r:embed="rId2"/>
          <a:stretch/>
        </p:blipFill>
        <p:spPr>
          <a:xfrm>
            <a:off x="4876920" y="2514600"/>
            <a:ext cx="3886200" cy="2558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0" descr="mast_09"/>
          <p:cNvPicPr/>
          <p:nvPr/>
        </p:nvPicPr>
        <p:blipFill>
          <a:blip r:embed="rId1"/>
          <a:stretch/>
        </p:blipFill>
        <p:spPr>
          <a:xfrm>
            <a:off x="0" y="0"/>
            <a:ext cx="9144000" cy="12906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11"/>
          <p:cNvSpPr/>
          <p:nvPr/>
        </p:nvSpPr>
        <p:spPr>
          <a:xfrm>
            <a:off x="1676520" y="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ages of Successful Implement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1523880" y="1752480"/>
            <a:ext cx="59436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or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al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 Implemen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no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stain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143000" y="14479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Leader2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ＭＳ Ｐゴシック"/>
                <a:hlinkClick r:id="rId1"/>
              </a:rPr>
              <a:t>http://www.edleader21.com/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1st Century Skills: Rethinking How Students Lea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ttp://go.solution-tree.com/21stcenturyskills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arning Powered by 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ttp://www.ed.gov/technology/netp-201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teracy21: Learning in a Changing Wor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ttps://prezi.com/secure/deb482089982c79d2f3d2296e64f99ecd1e6f776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21 Mile Guide Self-Assess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ttp://www.p21.org/milegui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ges of Successful Implemen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ttp://www.fpg.unc.edu/~nirn/implementation/06/06_stagesimple.cf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Horizon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ttp://wp.nmc.org/horizon2010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mast_09"/>
          <p:cNvPicPr/>
          <p:nvPr/>
        </p:nvPicPr>
        <p:blipFill>
          <a:blip r:embed="rId2"/>
          <a:stretch/>
        </p:blipFill>
        <p:spPr>
          <a:xfrm>
            <a:off x="0" y="0"/>
            <a:ext cx="9144000" cy="12906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4"/>
          <p:cNvSpPr/>
          <p:nvPr/>
        </p:nvSpPr>
        <p:spPr>
          <a:xfrm>
            <a:off x="1676520" y="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ferences and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1447920" y="1143000"/>
            <a:ext cx="6400800" cy="48006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2"/>
          <p:cNvGrpSpPr/>
          <p:nvPr/>
        </p:nvGrpSpPr>
        <p:grpSpPr>
          <a:xfrm>
            <a:off x="457200" y="1131840"/>
            <a:ext cx="8381880" cy="5850000"/>
            <a:chOff x="457200" y="1131840"/>
            <a:chExt cx="8381880" cy="5850000"/>
          </a:xfrm>
        </p:grpSpPr>
        <p:sp>
          <p:nvSpPr>
            <p:cNvPr id="54" name="Text Box 3"/>
            <p:cNvSpPr/>
            <p:nvPr/>
          </p:nvSpPr>
          <p:spPr>
            <a:xfrm>
              <a:off x="1737720" y="6374520"/>
              <a:ext cx="162972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ahoma"/>
                </a:rPr>
                <a:t>Stud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4"/>
            <p:cNvSpPr/>
            <p:nvPr/>
          </p:nvSpPr>
          <p:spPr>
            <a:xfrm>
              <a:off x="4065840" y="6374520"/>
              <a:ext cx="18612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ahoma"/>
                </a:rPr>
                <a:t>Faculty/Staf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5"/>
            <p:cNvSpPr/>
            <p:nvPr/>
          </p:nvSpPr>
          <p:spPr>
            <a:xfrm>
              <a:off x="6743520" y="6374520"/>
              <a:ext cx="162972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ahoma"/>
                </a:rPr>
                <a:t>Commun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AutoShape 6"/>
            <p:cNvSpPr/>
            <p:nvPr/>
          </p:nvSpPr>
          <p:spPr>
            <a:xfrm>
              <a:off x="573480" y="1537560"/>
              <a:ext cx="8265600" cy="4639320"/>
            </a:xfrm>
            <a:prstGeom prst="triangle">
              <a:avLst>
                <a:gd name="adj" fmla="val 50000"/>
              </a:avLst>
            </a:prstGeom>
            <a:solidFill>
              <a:srgbClr val="99ccff"/>
            </a:solidFill>
            <a:ln w="572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7"/>
            <p:cNvSpPr/>
            <p:nvPr/>
          </p:nvSpPr>
          <p:spPr>
            <a:xfrm>
              <a:off x="3949560" y="2426040"/>
              <a:ext cx="1513440" cy="2959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800000"/>
                  </a:solidFill>
                  <a:latin typeface="Tahoma"/>
                </a:rPr>
                <a:t>Assessmen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8"/>
            <p:cNvSpPr/>
            <p:nvPr/>
          </p:nvSpPr>
          <p:spPr>
            <a:xfrm>
              <a:off x="3600360" y="2820960"/>
              <a:ext cx="221184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9"/>
            <p:cNvSpPr/>
            <p:nvPr/>
          </p:nvSpPr>
          <p:spPr>
            <a:xfrm>
              <a:off x="2901600" y="3610800"/>
              <a:ext cx="36090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0"/>
            <p:cNvSpPr/>
            <p:nvPr/>
          </p:nvSpPr>
          <p:spPr>
            <a:xfrm>
              <a:off x="2319840" y="4301640"/>
              <a:ext cx="477288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11"/>
            <p:cNvSpPr/>
            <p:nvPr/>
          </p:nvSpPr>
          <p:spPr>
            <a:xfrm>
              <a:off x="1737720" y="4893840"/>
              <a:ext cx="59371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12"/>
            <p:cNvSpPr/>
            <p:nvPr/>
          </p:nvSpPr>
          <p:spPr>
            <a:xfrm>
              <a:off x="1271880" y="5486040"/>
              <a:ext cx="686844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13"/>
            <p:cNvSpPr/>
            <p:nvPr/>
          </p:nvSpPr>
          <p:spPr>
            <a:xfrm>
              <a:off x="457200" y="1143000"/>
              <a:ext cx="3375720" cy="69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800000"/>
                  </a:solidFill>
                  <a:latin typeface="Tahoma"/>
                </a:rPr>
                <a:t>Teaching &amp; Learning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800000"/>
                  </a:solidFill>
                  <a:latin typeface="Tahoma"/>
                </a:rPr>
                <a:t>Technology Hierarchy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14"/>
            <p:cNvSpPr/>
            <p:nvPr/>
          </p:nvSpPr>
          <p:spPr>
            <a:xfrm>
              <a:off x="2436120" y="4400280"/>
              <a:ext cx="4540320" cy="2959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ahoma"/>
                </a:rPr>
                <a:t>Leadership &amp; Administrative Sup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15"/>
            <p:cNvSpPr/>
            <p:nvPr/>
          </p:nvSpPr>
          <p:spPr>
            <a:xfrm>
              <a:off x="2319840" y="5683680"/>
              <a:ext cx="5122080" cy="3945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ahoma"/>
                </a:rPr>
                <a:t>Network Infrastructure &amp; Hardwa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16"/>
            <p:cNvSpPr/>
            <p:nvPr/>
          </p:nvSpPr>
          <p:spPr>
            <a:xfrm>
              <a:off x="2319840" y="4992840"/>
              <a:ext cx="4889160" cy="3945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ahoma"/>
                </a:rPr>
                <a:t>Technical Services &amp; Data Manage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17"/>
            <p:cNvSpPr/>
            <p:nvPr/>
          </p:nvSpPr>
          <p:spPr>
            <a:xfrm>
              <a:off x="3716640" y="3709440"/>
              <a:ext cx="2328120" cy="4935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800000"/>
                  </a:solidFill>
                  <a:latin typeface="Tahoma"/>
                </a:rPr>
                <a:t>Communication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800000"/>
                  </a:solidFill>
                  <a:latin typeface="Tahoma"/>
                </a:rPr>
                <a:t>&amp; Collaboratio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8"/>
            <p:cNvSpPr/>
            <p:nvPr/>
          </p:nvSpPr>
          <p:spPr>
            <a:xfrm>
              <a:off x="3949560" y="2919600"/>
              <a:ext cx="1629720" cy="592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800000"/>
                  </a:solidFill>
                  <a:latin typeface="Tahoma"/>
                </a:rPr>
                <a:t>Curriculum Applicatio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AutoShape 19"/>
            <p:cNvSpPr/>
            <p:nvPr/>
          </p:nvSpPr>
          <p:spPr>
            <a:xfrm rot="9232800">
              <a:off x="1270800" y="6275520"/>
              <a:ext cx="466200" cy="636120"/>
            </a:xfrm>
            <a:custGeom>
              <a:avLst/>
              <a:gdLst>
                <a:gd name="textAreaLeft" fmla="*/ 62280 w 466200"/>
                <a:gd name="textAreaRight" fmla="*/ 403920 w 466200"/>
                <a:gd name="textAreaTop" fmla="*/ 105840 h 636120"/>
                <a:gd name="textAreaBottom" fmla="*/ 436320 h 63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186" stAng="-5400000" swAng="5400000"/>
                  <a:lnTo>
                    <a:pt x="21600" y="11226"/>
                  </a:lnTo>
                  <a:arcTo wR="21600" hR="7186" stAng="0" swAng="2595372"/>
                  <a:lnTo>
                    <a:pt x="7200" y="21189"/>
                  </a:lnTo>
                  <a:lnTo>
                    <a:pt x="0" y="16391"/>
                  </a:lnTo>
                  <a:lnTo>
                    <a:pt x="7200" y="10771"/>
                  </a:lnTo>
                  <a:lnTo>
                    <a:pt x="7200" y="13960"/>
                  </a:lnTo>
                  <a:arcTo wR="21600" hR="7186" stAng="2595372" swAng="-2261424"/>
                  <a:lnTo>
                    <a:pt x="20729" y="9206"/>
                  </a:lnTo>
                  <a:arcTo wR="21600" hR="7186" stAng="-333949" swAng="-5066051"/>
                  <a:close/>
                </a:path>
                <a:path fill="darkenLess" w="21600" h="21600">
                  <a:moveTo>
                    <a:pt x="0" y="0"/>
                  </a:moveTo>
                  <a:arcTo wR="21600" hR="7186" stAng="-5400000" swAng="5400000"/>
                  <a:lnTo>
                    <a:pt x="21600" y="11226"/>
                  </a:lnTo>
                  <a:arcTo wR="21600" hR="7186" stAng="0" swAng="-333949"/>
                  <a:lnTo>
                    <a:pt x="20729" y="9206"/>
                  </a:lnTo>
                  <a:arcTo wR="21600" hR="7186" stAng="-333949" swAng="-5066051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AutoShape 20"/>
            <p:cNvSpPr/>
            <p:nvPr/>
          </p:nvSpPr>
          <p:spPr>
            <a:xfrm rot="9232800">
              <a:off x="3599280" y="6275520"/>
              <a:ext cx="466200" cy="636120"/>
            </a:xfrm>
            <a:custGeom>
              <a:avLst/>
              <a:gdLst>
                <a:gd name="textAreaLeft" fmla="*/ 62280 w 466200"/>
                <a:gd name="textAreaRight" fmla="*/ 403920 w 466200"/>
                <a:gd name="textAreaTop" fmla="*/ 105840 h 636120"/>
                <a:gd name="textAreaBottom" fmla="*/ 436320 h 63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186" stAng="-5400000" swAng="5400000"/>
                  <a:lnTo>
                    <a:pt x="21600" y="11226"/>
                  </a:lnTo>
                  <a:arcTo wR="21600" hR="7186" stAng="0" swAng="2595372"/>
                  <a:lnTo>
                    <a:pt x="7200" y="21189"/>
                  </a:lnTo>
                  <a:lnTo>
                    <a:pt x="0" y="16391"/>
                  </a:lnTo>
                  <a:lnTo>
                    <a:pt x="7200" y="10771"/>
                  </a:lnTo>
                  <a:lnTo>
                    <a:pt x="7200" y="13960"/>
                  </a:lnTo>
                  <a:arcTo wR="21600" hR="7186" stAng="2595372" swAng="-2261424"/>
                  <a:lnTo>
                    <a:pt x="20729" y="9206"/>
                  </a:lnTo>
                  <a:arcTo wR="21600" hR="7186" stAng="-333949" swAng="-5066051"/>
                  <a:close/>
                </a:path>
                <a:path fill="darkenLess" w="21600" h="21600">
                  <a:moveTo>
                    <a:pt x="0" y="0"/>
                  </a:moveTo>
                  <a:arcTo wR="21600" hR="7186" stAng="-5400000" swAng="5400000"/>
                  <a:lnTo>
                    <a:pt x="21600" y="11226"/>
                  </a:lnTo>
                  <a:arcTo wR="21600" hR="7186" stAng="0" swAng="-333949"/>
                  <a:lnTo>
                    <a:pt x="20729" y="9206"/>
                  </a:lnTo>
                  <a:arcTo wR="21600" hR="7186" stAng="-333949" swAng="-5066051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AutoShape 21"/>
            <p:cNvSpPr/>
            <p:nvPr/>
          </p:nvSpPr>
          <p:spPr>
            <a:xfrm rot="9232800">
              <a:off x="6277320" y="6275520"/>
              <a:ext cx="466200" cy="636120"/>
            </a:xfrm>
            <a:custGeom>
              <a:avLst/>
              <a:gdLst>
                <a:gd name="textAreaLeft" fmla="*/ 62280 w 466200"/>
                <a:gd name="textAreaRight" fmla="*/ 403920 w 466200"/>
                <a:gd name="textAreaTop" fmla="*/ 105840 h 636120"/>
                <a:gd name="textAreaBottom" fmla="*/ 436320 h 63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186" stAng="-5400000" swAng="5400000"/>
                  <a:lnTo>
                    <a:pt x="21600" y="11226"/>
                  </a:lnTo>
                  <a:arcTo wR="21600" hR="7186" stAng="0" swAng="2595372"/>
                  <a:lnTo>
                    <a:pt x="7200" y="21189"/>
                  </a:lnTo>
                  <a:lnTo>
                    <a:pt x="0" y="16391"/>
                  </a:lnTo>
                  <a:lnTo>
                    <a:pt x="7200" y="10771"/>
                  </a:lnTo>
                  <a:lnTo>
                    <a:pt x="7200" y="13960"/>
                  </a:lnTo>
                  <a:arcTo wR="21600" hR="7186" stAng="2595372" swAng="-2261424"/>
                  <a:lnTo>
                    <a:pt x="20729" y="9206"/>
                  </a:lnTo>
                  <a:arcTo wR="21600" hR="7186" stAng="-333949" swAng="-5066051"/>
                  <a:close/>
                </a:path>
                <a:path fill="darkenLess" w="21600" h="21600">
                  <a:moveTo>
                    <a:pt x="0" y="0"/>
                  </a:moveTo>
                  <a:arcTo wR="21600" hR="7186" stAng="-5400000" swAng="5400000"/>
                  <a:lnTo>
                    <a:pt x="21600" y="11226"/>
                  </a:lnTo>
                  <a:arcTo wR="21600" hR="7186" stAng="0" swAng="-333949"/>
                  <a:lnTo>
                    <a:pt x="20729" y="9206"/>
                  </a:lnTo>
                  <a:arcTo wR="21600" hR="7186" stAng="-333949" swAng="-5066051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22"/>
            <p:cNvSpPr/>
            <p:nvPr/>
          </p:nvSpPr>
          <p:spPr>
            <a:xfrm>
              <a:off x="4764240" y="1143000"/>
              <a:ext cx="244476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00"/>
                  </a:solidFill>
                  <a:latin typeface="Tahoma"/>
                </a:rPr>
                <a:t>Learning Resul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AutoShape 23"/>
            <p:cNvSpPr/>
            <p:nvPr/>
          </p:nvSpPr>
          <p:spPr>
            <a:xfrm flipV="1" rot="21492600">
              <a:off x="4064040" y="1141920"/>
              <a:ext cx="698400" cy="1085400"/>
            </a:xfrm>
            <a:custGeom>
              <a:avLst/>
              <a:gdLst>
                <a:gd name="textAreaLeft" fmla="*/ 93600 w 698400"/>
                <a:gd name="textAreaRight" fmla="*/ 604800 w 698400"/>
                <a:gd name="textAreaTop" fmla="*/ 202320 h 1085400"/>
                <a:gd name="textAreaBottom" fmla="*/ 725400 h 1085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051" stAng="-5400000" swAng="-5400000"/>
                  <a:lnTo>
                    <a:pt x="0" y="10409"/>
                  </a:lnTo>
                  <a:arcTo wR="21600" hR="8051" stAng="10800000" swAng="-2790649"/>
                  <a:lnTo>
                    <a:pt x="14400" y="21140"/>
                  </a:lnTo>
                  <a:lnTo>
                    <a:pt x="21600" y="17280"/>
                  </a:lnTo>
                  <a:lnTo>
                    <a:pt x="14400" y="12500"/>
                  </a:lnTo>
                  <a:lnTo>
                    <a:pt x="14400" y="15641"/>
                  </a:lnTo>
                  <a:arcTo wR="21600" hR="8051" stAng="8009351" swAng="2601152"/>
                  <a:lnTo>
                    <a:pt x="233" y="9230"/>
                  </a:lnTo>
                  <a:arcTo wR="21600" hR="8051" stAng="-10610503" swAng="5210503"/>
                  <a:close/>
                </a:path>
                <a:path fill="darkenLess" w="21600" h="21600">
                  <a:moveTo>
                    <a:pt x="21600" y="0"/>
                  </a:moveTo>
                  <a:arcTo wR="21600" hR="8051" stAng="-5400000" swAng="-5400000"/>
                  <a:lnTo>
                    <a:pt x="0" y="8051"/>
                  </a:lnTo>
                  <a:arcTo wR="21600" hR="8051" stAng="10800000" swAng="-189497"/>
                  <a:lnTo>
                    <a:pt x="233" y="9230"/>
                  </a:lnTo>
                  <a:arcTo wR="21600" hR="8051" stAng="-10610503" swAng="5210503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Text Box 24"/>
          <p:cNvSpPr/>
          <p:nvPr/>
        </p:nvSpPr>
        <p:spPr>
          <a:xfrm>
            <a:off x="7620120" y="658332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© A. Koufman,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5" descr="mast_09"/>
          <p:cNvPicPr/>
          <p:nvPr/>
        </p:nvPicPr>
        <p:blipFill>
          <a:blip r:embed="rId1"/>
          <a:stretch/>
        </p:blipFill>
        <p:spPr>
          <a:xfrm>
            <a:off x="0" y="0"/>
            <a:ext cx="9144000" cy="12906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26"/>
          <p:cNvSpPr/>
          <p:nvPr/>
        </p:nvSpPr>
        <p:spPr>
          <a:xfrm>
            <a:off x="457200" y="1219320"/>
            <a:ext cx="320040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7"/>
          <p:cNvSpPr/>
          <p:nvPr/>
        </p:nvSpPr>
        <p:spPr>
          <a:xfrm>
            <a:off x="2362320" y="84240"/>
            <a:ext cx="74674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aching &amp; Learn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chnology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mast_09"/>
          <p:cNvPicPr/>
          <p:nvPr/>
        </p:nvPicPr>
        <p:blipFill>
          <a:blip r:embed="rId1"/>
          <a:stretch/>
        </p:blipFill>
        <p:spPr>
          <a:xfrm>
            <a:off x="0" y="0"/>
            <a:ext cx="9144000" cy="12906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ile Guide Self-Assess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P21 graphic"/>
          <p:cNvPicPr/>
          <p:nvPr/>
        </p:nvPicPr>
        <p:blipFill>
          <a:blip r:embed="rId2"/>
          <a:stretch/>
        </p:blipFill>
        <p:spPr>
          <a:xfrm>
            <a:off x="1295280" y="1376280"/>
            <a:ext cx="655344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 x 1 Ac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munication &amp; Collabo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udent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ent Creation &amp; Publis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1st Century Learning Environ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essional Lear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mast_09"/>
          <p:cNvPicPr/>
          <p:nvPr/>
        </p:nvPicPr>
        <p:blipFill>
          <a:blip r:embed="rId1"/>
          <a:stretch/>
        </p:blipFill>
        <p:spPr>
          <a:xfrm>
            <a:off x="0" y="0"/>
            <a:ext cx="9144000" cy="12906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4"/>
          <p:cNvSpPr/>
          <p:nvPr/>
        </p:nvSpPr>
        <p:spPr>
          <a:xfrm>
            <a:off x="10666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1st C Learning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mast_09"/>
          <p:cNvPicPr/>
          <p:nvPr/>
        </p:nvPicPr>
        <p:blipFill>
          <a:blip r:embed="rId1"/>
          <a:stretch/>
        </p:blipFill>
        <p:spPr>
          <a:xfrm>
            <a:off x="0" y="0"/>
            <a:ext cx="9144000" cy="12906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3352680" y="6415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ahoma"/>
              </a:rPr>
              <a:t>FableVision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udent Learning Initia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1640" y="152388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s of Academic 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ine Student N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ead 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l Sci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o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21st_century_kid"/>
          <p:cNvPicPr/>
          <p:nvPr/>
        </p:nvPicPr>
        <p:blipFill>
          <a:blip r:embed="rId2"/>
          <a:stretch/>
        </p:blipFill>
        <p:spPr>
          <a:xfrm>
            <a:off x="685800" y="1523880"/>
            <a:ext cx="3433680" cy="4724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8" descr="mast_09"/>
          <p:cNvPicPr/>
          <p:nvPr/>
        </p:nvPicPr>
        <p:blipFill>
          <a:blip r:embed="rId1"/>
          <a:stretch/>
        </p:blipFill>
        <p:spPr>
          <a:xfrm>
            <a:off x="0" y="0"/>
            <a:ext cx="9144000" cy="12906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fessional Learning Pract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Fo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ic Collabor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ology-In-Practice (T-I-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ek of the W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Assessment &am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 Plan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ing Pro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ership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21stCkid_P21"/>
          <p:cNvPicPr/>
          <p:nvPr/>
        </p:nvPicPr>
        <p:blipFill>
          <a:blip r:embed="rId2"/>
          <a:stretch/>
        </p:blipFill>
        <p:spPr>
          <a:xfrm>
            <a:off x="6477120" y="4114800"/>
            <a:ext cx="2374920" cy="2438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mast_09"/>
          <p:cNvPicPr/>
          <p:nvPr/>
        </p:nvPicPr>
        <p:blipFill>
          <a:blip r:embed="rId1"/>
          <a:stretch/>
        </p:blipFill>
        <p:spPr>
          <a:xfrm>
            <a:off x="0" y="0"/>
            <a:ext cx="9144000" cy="12906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sk Forces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Electronic Collabo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Content Placeholder 6"/>
          <p:cNvSpPr/>
          <p:nvPr/>
        </p:nvSpPr>
        <p:spPr>
          <a:xfrm>
            <a:off x="609480" y="1600200"/>
            <a:ext cx="442116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-34272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-5 M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-3 Re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-5-6 Sc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arly Childhoo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em Data T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-5 Reading &amp; Wri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em World Language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cial Studies Advis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Content Placeholder 8"/>
          <p:cNvSpPr/>
          <p:nvPr/>
        </p:nvSpPr>
        <p:spPr>
          <a:xfrm>
            <a:off x="4950000" y="1600200"/>
            <a:ext cx="404172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-34272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fessional Development Counc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-I-P Counc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acher Evaluation Design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tism Council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iversal Design for Learning Advisor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7" descr="TIPnav"/>
          <p:cNvPicPr/>
          <p:nvPr/>
        </p:nvPicPr>
        <p:blipFill>
          <a:blip r:embed="rId1"/>
          <a:stretch/>
        </p:blipFill>
        <p:spPr>
          <a:xfrm>
            <a:off x="0" y="1295280"/>
            <a:ext cx="3279600" cy="61344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0"/>
          <p:cNvSpPr/>
          <p:nvPr/>
        </p:nvSpPr>
        <p:spPr>
          <a:xfrm>
            <a:off x="1066680" y="304920"/>
            <a:ext cx="79250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1" descr="Screen shot 2011-01-28 at 10"/>
          <p:cNvPicPr/>
          <p:nvPr/>
        </p:nvPicPr>
        <p:blipFill>
          <a:blip r:embed="rId2"/>
          <a:stretch/>
        </p:blipFill>
        <p:spPr>
          <a:xfrm>
            <a:off x="4495680" y="2286000"/>
            <a:ext cx="3214800" cy="4114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2" descr="mast_09"/>
          <p:cNvPicPr/>
          <p:nvPr/>
        </p:nvPicPr>
        <p:blipFill>
          <a:blip r:embed="rId3"/>
          <a:stretch/>
        </p:blipFill>
        <p:spPr>
          <a:xfrm>
            <a:off x="0" y="0"/>
            <a:ext cx="9144000" cy="12906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3"/>
          <p:cNvSpPr/>
          <p:nvPr/>
        </p:nvSpPr>
        <p:spPr>
          <a:xfrm>
            <a:off x="2438280" y="228600"/>
            <a:ext cx="548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chnology-In-Pract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TeachingProfiles"/>
          <p:cNvPicPr/>
          <p:nvPr/>
        </p:nvPicPr>
        <p:blipFill>
          <a:blip r:embed="rId1"/>
          <a:stretch/>
        </p:blipFill>
        <p:spPr>
          <a:xfrm>
            <a:off x="0" y="0"/>
            <a:ext cx="914400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3T02:14:51Z</dcterms:created>
  <dc:creator>Watertown Public Schools Watertown, MA 02472</dc:creator>
  <dc:description/>
  <dc:language>en-US</dc:language>
  <cp:lastModifiedBy>Melissa Henriquez</cp:lastModifiedBy>
  <cp:lastPrinted>2011-02-13T19:09:25Z</cp:lastPrinted>
  <dcterms:modified xsi:type="dcterms:W3CDTF">2011-04-18T11:44:28Z</dcterms:modified>
  <cp:revision>54</cp:revision>
  <dc:subject/>
  <dc:title>Watertown Public Schools Professional Learning …Forward</dc:title>
</cp:coreProperties>
</file>